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9A8-DBA6-4347-BB31-8CAF9BAB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4D8-7F3F-4D54-BA79-4F619C6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783FC-9754-4ABA-8350-76C3366F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57922-F22E-44F7-B32A-1C5C5DCE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FE191-ACE5-4EC4-AFE1-668AEB95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8A8FB-CDB5-4967-81F9-625C227E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AA7A8-BDAE-4CA9-B75A-C4DCAADD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10A92-45B5-42DF-8EFA-A1C015C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0A396-2B7F-43A9-AB08-E566B956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BCD6-F827-423F-B36F-03C91F06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51CFA-B67C-4456-A2D4-A1D71181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DDD52-E9B3-4B35-A95D-C2FB5286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468-04E6-4F77-BE12-09C780CA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D46F2-C208-4694-A121-C79EE838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63485-F028-4BC4-A47A-7E6DB150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4EE20-FD66-4AC5-8128-01DAA341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684A6-D2A0-4EB3-B027-48057C40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5BE74-E6DC-4CA5-990E-B511475B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914E9-E5A1-47F8-8EA4-8D13DFA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4651C-4C2E-4972-9E50-AE3A8EE0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5F688-0B51-4CB5-9949-6FCAD726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5031B-68B6-4285-A544-2D8253F5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11331-E6D9-4F32-B3B2-F205D55D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AD3-593F-461D-80C8-91BA5AAE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2343A-460D-4398-9606-CDF42439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1A81-194A-46BC-B251-2CABA23F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A0608-5754-4CBD-9FCC-52C872BD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4530F-B2CE-4D62-A1F3-5644EF81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ECAF2-CE2D-4C8C-8A63-D6D3BEE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F1646-6EAE-40CC-A073-1C42E4B1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F8C61-9C48-4532-83A1-D4EDFC32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2086D-6C12-4350-826B-C9E7B40D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9C6D3-FC82-48B7-9578-16C00165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BB1FF-A079-4218-BAB0-8BE286B8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639F-5D9F-4C3C-9948-437EA91C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AAF92-BF94-42EE-B6C2-F7575EEB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3A18A-18EA-447F-880F-5135847E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547AA-5335-4942-BA53-E5F2D634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33593-FF24-44EE-8FCE-76139BB1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55C92-6375-49D9-8693-AD226147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1782B-FC3B-4DB0-87B0-66F92398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6A35D-4971-4429-8DB2-D2FB932F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C8BE3-9BE0-4688-8A8C-D0685B65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5B0D1-4700-4032-9F52-931E22BA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FCBE6-F791-4F9D-855D-946EEA3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19C8-B53B-4BCE-9FA8-E1F72C2F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1611A-F632-4311-8983-810FC18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319B0-7AB6-40CB-B063-B33861B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89056-A17C-4616-8E07-BB576D35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99D43-1E9C-40F9-AD01-B340EA82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F3C4B-8A78-4698-A555-2D68E8E2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F2B69-35BA-4261-A9CF-885C1801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C87D3-0C50-4B85-9CC1-33B4AA6A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87F8C-2FC6-4497-B85F-15258DEE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51876-6021-42AC-8BD4-33266A7F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D7D6E-3761-419B-8646-35D794F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BDB6-A83C-4637-98DF-269701FE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45AD7-622C-453B-9A13-EB5ABA9C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FC565-9CB2-4F87-AFF3-CAE93B6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AA2F0-9D7B-4157-B50D-7BCA73C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4F69D-49B2-4DF7-9A8F-D8E3707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0BEA6-82F1-41C0-BC3C-77ABB8CA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0C5FE-462C-4328-8279-67F2B93C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CA4D3-EB71-46C8-AA63-BA219DD0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0BE47-DDE4-4129-849F-ABE0994A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7FA5D-28B9-47BD-AF7D-73D29190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2C998-E919-4A08-962F-0DC955E4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4642-506C-48DC-B801-17B6B6C6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5F27B-6A2A-4C97-8013-1CD61CDA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25D5F-34D6-4E4D-8E4C-2B1FB309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FF602-3781-498D-B198-BB2FC789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12A8D-9C55-43E2-B9D5-BDDDAC7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A3AFD-5578-4775-925D-D8A48C42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F97E7-A1BF-44F7-850A-CAEC4BAA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806DF-FC59-4F34-B42C-30F7561B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5A5CD-E340-4816-810B-4345F7ED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4E6FA-5866-4944-8E4D-424AB62D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EBF98-8AA3-4023-8020-043F922A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F0EB-E592-417D-B648-6CC2B4C8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43173-BD5C-4383-ADFF-BFC0723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1EB71-2CB5-4282-B394-CA93118E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7B2A5-22A5-4770-950C-DE884B7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50124-5C53-412D-879B-183EF2FE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BE4D4-822B-4D88-B646-49D1EA23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B249D-4871-4E13-A473-908D224B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A688E-8A0D-4A91-A562-3F94096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495E5-6918-48E6-9600-F45C476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BFBB3-6948-4097-8217-50151E95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A30CA-0F56-43E0-8B50-EAD044E0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C198-C484-4F2E-B206-0378100C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81EA5-B385-43A4-A41B-303C9163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5518F-12E7-403C-8664-3E9EE733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41AC9-EF1C-4D85-831A-D8F2C3B4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6EAB39-ACCB-420D-892E-8F349447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2224F-A3F3-4301-96C2-41BFD413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1FE36-8F0F-4163-9CC1-5F87FF9D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BC16C-9C86-4985-85A1-C05607CD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B9EB4-FFB6-4B08-9653-98DC022D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F53F6-FD25-40D2-8AF1-9C5A004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AE86F-6E00-4D24-A9A5-60C85D5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F6CA-F90F-420B-A27F-E404A965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8932F-2B40-4BD7-A6F8-AC2D743A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F4ABB-F762-445D-ADFC-FAD4C63C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592C3-5D0D-4A2D-B20B-18A48048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60C2B-0DCF-43F3-8614-498CCB9C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9D654-9536-4A29-97F5-CD869293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6FEF0-75C7-4394-A268-9304C02A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8B611-C3D3-4D19-AA26-DF4D6B0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F1697-AF2E-4820-A16D-05B9BC8E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DE529-D512-4503-8603-52F117D5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418A6E-7ADD-4F8F-A9B8-0816502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02B-26C2-48C5-9BCC-BF5D9285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99A2-ABCF-4A67-A8E7-5D745B2B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7C05B-7F49-4384-A361-BA36B01C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E76BE-BF18-4201-A8FC-305850A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71B80-56DC-4B22-8DA9-6D606EA8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67EA3-9777-4859-80A0-760F9198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E94AC-AAFD-4AD6-9849-18421124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A6396-1747-4330-BBD8-0485726D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B93E0-982D-4E86-B0F1-0F53F24B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04942-637D-4CBC-BFB7-77C13E1F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522B6-7E04-4CB6-99E4-E9DD9F8C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88374-AA84-4196-8F04-76E86624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7AA2-45A5-4F81-8994-7536F7F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D8A79-EC4B-44DA-AD6F-CB99A6F6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63AA2-E1C4-44B4-8223-D791965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93BAE-E7FC-4BD5-AA39-40CB580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EB7A3-D79A-4348-94C0-F10AC058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C7174-52FD-4721-A350-EAEA7552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50117-5B8C-4F80-81E3-14C70B61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D1CEDA-1280-4EE9-8D18-23E2091E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EB764-3B54-43DB-9E8C-67C99A15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592EB-E1C4-4B6C-8F2F-DA43D673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762DA-0560-4650-B622-AC354571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9B4-CDE3-48FB-9016-D08A52D1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11534-B5DF-457D-B523-AF023EA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DF1C35-4843-42C5-9666-503E71AD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1DF6B-F79D-4C48-AF7D-BEDAF789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D745F-2C2A-4B93-A1F9-BAB7994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C06EA7-27BF-4F60-8845-1159A26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5D980-F566-4664-BFE4-45E95191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F7B89-2B76-4B05-8F3A-00BD4EB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33D66-79D5-4D03-B1A1-15126755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3C94C-FF9D-4AD1-80F1-DFB7FB5E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E83BA1-6CFF-49B2-85F6-0D5B34E2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537D-CA1D-42AB-84AD-D4354AED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C614B-AB96-4E22-AC4A-C8E0AA1C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C48A7-55D8-47D0-B322-2165E03D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101116-D4B8-474F-9E90-BA8221F4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C56C8-3FDB-4C0A-B8E0-DB8B148E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FC72E-19C5-4AA1-9BB9-0DC623D1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A6C01-FBEE-4453-ACC1-A5FA4142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B04E8-3E70-45BC-B645-1EB6477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7A7F3-6665-44EF-B978-1017A059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52369-237A-446F-A729-C62CF2E8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D335B2-C903-47A7-A50B-F915BACD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A670-9C90-40EA-8427-651F4705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2BC10-09EB-4AF8-A01C-811F6F17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EE6B0B-CFBB-457E-BD64-8BFA2D85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010CB-3FAA-4686-B565-E4F74948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690B9-3441-40C2-81E3-44BFE5F6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9A9C4-F3DA-46D9-9671-35753074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AEAA1-576A-41B5-A505-6F612255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7B81D-6208-4CCC-94B8-001E91DB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B902CE-B261-4F5A-9003-3F8B834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72C37A-6AB4-4379-82D0-BBE63693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B58189-72A4-4E2C-9E73-01F320B4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FCB5-1575-4044-AAC1-C0BD1DCF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9A0F2-2C8C-4348-A562-C333ED95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A9502-7F67-4064-A9AF-5D3C52BB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8E577-3637-4133-BD8D-F3278C30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92023-B82B-442D-9D41-9D53456D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4AC4-6E5C-4776-9914-3699FDE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8D6F-BCD4-4567-9833-C36943B5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6ED6-25E1-4B31-A809-08910A72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B3F-FA2F-4276-A662-55207059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631F-7562-4E76-942B-740DDDDA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A8DD-84CA-4B47-8F3C-3E71F1A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E909-A43D-42F9-BFBC-7E80948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D7EC-2DB1-4659-B8DA-55F99E2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22CE-6704-4132-B389-C9B6F944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44A5-C7FF-4633-911E-64C68080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2065-1D29-4B79-9B04-EC83E34F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A432-53FE-4790-8FF9-EF47E63A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F6C6-9159-41C9-8C86-D783053D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6A83-B35A-4F1F-8829-3C119233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F6A-F3AF-4D97-989B-EC1E347C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38F6-7B94-41B6-9936-CF9ED7AC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0B973-1665-4C37-8648-2FB0353B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F183C-04B1-4B8F-97FC-5801CECB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FE1C7-B789-4064-9256-4B65DD43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D651-C16A-49FF-BC24-E4455C4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7D84A-DD57-4492-9823-BC10F7B1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85D06-B1E7-4ABB-9484-B7824528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F7D5-80A6-4B04-8F17-6C928984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5013-E43E-4351-ABAD-ED859F4D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5DF4B-A075-4C7B-AB4A-27789290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262-5BB4-4956-B28B-241D4E8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2AE5-94C5-4114-9745-22AE93DF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F5893-84B6-458E-B92E-BFC288BA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C3033-934C-4530-B8A1-9DD1EB5D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F2BB2-4DF1-4B39-96D2-34E23F95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56D6-9AF2-4E9F-8BB8-0FEDD13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6705-B06F-419F-9EBD-207A20E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9681-A52A-4550-AC45-B46A00E7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6864-1D2D-4D51-B705-0D732810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107F8-AD2A-4D4A-9FEA-0EF05F75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E849-31C1-4B72-B776-2E8CD891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BF8-8855-4451-9E90-2A17C7E0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33643-656F-4A14-ACA1-4EF65530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7B20-2D18-4F02-93BE-55652536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5EDE6-A9CA-41DD-B702-9DFB2D80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233A6-1758-4C38-A478-C6667C13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D0513-BD7F-47A9-BC13-1BD0DC65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84C60-3815-4CC6-AC3E-DF3F7504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44E68-F489-4D77-9558-357488B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714EA-A1BE-441F-B139-AF60032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E457E-55D6-400E-8073-A4EEDB10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19A82-7F90-4829-B5C6-5A8D44B4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2C8-030F-4C8E-AE23-E8CB97B6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B5711-0DC8-49EB-864D-09016A5A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FF912-22D7-41A0-A9F0-67C7383F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CA61E-A763-48A8-9214-3F9C99A8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E255C-64E8-4EE3-8AF4-A7251436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E1FC-001B-44D9-8BC5-3BE204D1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41169-4485-4DF1-BA4A-D99DE52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7C9D-3C62-43CF-A552-8AC3A1E5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BF73F-2277-4E91-B284-6509C552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30DDC-B4A5-46E3-92B1-F48FC4D2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0CBD4-ED9D-4A6E-AB15-B5B9FB2D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766-6A1F-4E5E-9A77-4D12FD30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94F39-04C9-45D9-BA63-ADAFE32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3CB08-60CD-40D7-AC6E-A9389C74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4DB7B-92A2-446E-BD87-B495C63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B6E8B-9BB5-4EBD-8D45-32DD9FAE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D466-80E8-4D77-9A81-BC4BFE4F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6BCF9-80EF-404B-B54A-F6358EDE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4443E-6936-4571-845C-B6EA3A5A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80EB6-C4C0-477C-9878-3F98DB80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D83E-34D3-4EF4-8FCF-9F281CC9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4BA7D-10F8-4B1E-B2A1-96E7FA59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66A-BD98-40AC-B3AB-66925DDA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EEB90-F9F5-434A-92DD-06BF24B6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7F531-D782-4FB7-9F61-A4A59ED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B66D2-AF97-4986-9116-17BD474B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A4A1F-3549-47CD-AA77-390DD20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1466B-83FD-42DC-87D5-55D2B5E8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D3233-0DBF-4005-BD50-BEC85420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5A153-8F05-4721-92A1-F82EA4D8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F8B2C-F0DC-42C7-83A0-3E444D77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079FF-767E-4FDD-AF70-721EB615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84241-30CA-40BD-9367-0C7682D5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0C93-5D32-46AB-9D87-B01977269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2FDB-2E7F-4B8E-AD8F-F61CFB031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224-50AE-4419-8A92-35F052604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62F3-30C6-4DC6-9E96-A851553D0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1D7E-519D-4C34-BE4E-B6271A79C2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891B-7307-44FC-B0D1-8514F1B8C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3A8C-9C11-487D-BB13-A6F185BFF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E5D7-3323-4087-962F-F98F82CF0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1FAA-B56C-47F4-ABB9-34495EAF04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6ACF-35F7-4DD8-AE21-A1ABAB3AE5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E040-5DF1-41FC-875E-1937E6F24B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4C35-7C43-4B06-B151-499B75E681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8CB7-DBBA-4F94-9648-31EF8687C5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B9CA-960C-40C6-9546-5F88B8449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A97C-8FE6-4FDB-A117-5F0C5DAD7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EE16-8032-48D4-8753-F8DFD2DE7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B020-3578-4285-AD55-77C98491AA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6BAE-AD73-47AE-A10D-228459B453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006F-8796-4EBB-8C95-09AB5E70FA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D4D3-4278-4317-9E8E-16A249343D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9CB0-1199-4AFC-BE2E-88F2E41EE3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A59A-436D-411C-87CC-D0E360827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2D8E-B5A7-44F0-85FB-8C361302C0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C10C-BD1E-44FE-9250-23C8F5E272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CC8E-36A4-4916-8C2E-6B4E3AE1E1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B368-80C2-4591-B19A-9DFDAEF41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ED6B-8629-4D15-BE7A-12F7922496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9D37-0455-4AE3-8462-20FD693C76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2CF1-96D8-4459-81E8-749E230EF8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C253-D689-4E02-8533-20F7073388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47F-CE50-4F27-9BAC-10EBAF2134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473F-9646-44B5-A89B-E5731F7B2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AFDD-A81D-4044-8406-DA81E97D5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D6DD-FD3B-4A23-8361-AE47ACA81B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DD24-47CA-4F4D-BFC1-432D41292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3887-0DF3-42C8-BC11-DC296C28EC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103-7CDA-4B44-931A-0D5FDB401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D30D-262B-472B-9765-4880377050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EE5D-9A26-4C8F-BC34-5A53A0C1C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1F42-EC15-4465-B252-EDD81893AE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19400" y="3005280"/>
            <a:ext cx="29052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566640" y="1919160"/>
            <a:ext cx="8010720" cy="30196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808360" cy="936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3924360" y="1916280"/>
            <a:ext cx="3384360" cy="936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3384720" cy="936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539640" y="3875040"/>
            <a:ext cx="8136000" cy="503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395280" y="4408560"/>
            <a:ext cx="8136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68609" descr=""/>
          <p:cNvPicPr/>
          <p:nvPr/>
        </p:nvPicPr>
        <p:blipFill>
          <a:blip r:embed="rId1"/>
          <a:stretch/>
        </p:blipFill>
        <p:spPr>
          <a:xfrm>
            <a:off x="243000" y="61920"/>
            <a:ext cx="8658000" cy="6734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826920" y="2766960"/>
            <a:ext cx="3313440" cy="934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3313080" cy="9349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826920" y="3759120"/>
            <a:ext cx="3313440" cy="9352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826920" y="4754520"/>
            <a:ext cx="6193080" cy="934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826920" y="5832360"/>
            <a:ext cx="6193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1095480"/>
            <a:ext cx="8524800" cy="4667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227640" y="4264200"/>
            <a:ext cx="633600" cy="502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300720" y="365904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979640" y="4797360"/>
            <a:ext cx="633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85720" y="839880"/>
            <a:ext cx="7972560" cy="5829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2843280" y="73512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4572000" y="132552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6300720" y="1009800"/>
            <a:ext cx="1150920" cy="502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4427640" y="2492280"/>
            <a:ext cx="633240" cy="8654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659640" y="2637000"/>
            <a:ext cx="633240" cy="502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5724360" y="345744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2340000" y="5748480"/>
            <a:ext cx="633240" cy="110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0"/>
          <a:stretch/>
        </p:blipFill>
        <p:spPr>
          <a:xfrm>
            <a:off x="3995640" y="596412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1"/>
          <a:stretch/>
        </p:blipFill>
        <p:spPr>
          <a:xfrm>
            <a:off x="6156360" y="5645160"/>
            <a:ext cx="6332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571680" y="1495440"/>
            <a:ext cx="8001000" cy="3867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547640" y="4292640"/>
            <a:ext cx="2808360" cy="936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5076720" y="4278240"/>
            <a:ext cx="2808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581040" y="1038240"/>
            <a:ext cx="7981920" cy="4781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900000" y="2738520"/>
            <a:ext cx="7775640" cy="906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55640" y="3846600"/>
            <a:ext cx="7775640" cy="906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611280" y="4883040"/>
            <a:ext cx="777564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619200" y="1733400"/>
            <a:ext cx="7905600" cy="33912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2808360" cy="9363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4284720" y="2924280"/>
            <a:ext cx="2808360" cy="936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2808360" cy="936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3924360" y="4062240"/>
            <a:ext cx="2808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785880" y="1047600"/>
            <a:ext cx="7572240" cy="47628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1584360" cy="934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3132000" y="2736720"/>
            <a:ext cx="1584360" cy="935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76360" y="3803760"/>
            <a:ext cx="2519280" cy="934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332000" y="4811760"/>
            <a:ext cx="2519280" cy="934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5508720" y="2708280"/>
            <a:ext cx="2519280" cy="934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5580000" y="3803760"/>
            <a:ext cx="2519280" cy="934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5508720" y="4738680"/>
            <a:ext cx="25192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252360" y="1509840"/>
            <a:ext cx="8639280" cy="3838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755640" y="2824200"/>
            <a:ext cx="2592360" cy="8920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2592360" cy="5032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611280" y="4408560"/>
            <a:ext cx="61214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290520" y="1305000"/>
            <a:ext cx="8562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25:4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